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7109"/>
        <c:axId val="95664200"/>
      </c:barChart>
      <c:catAx>
        <c:axId val="4517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4200"/>
        <c:crosses val="autoZero"/>
        <c:auto val="1"/>
        <c:lblAlgn val="ctr"/>
        <c:lblOffset val="100"/>
        <c:noMultiLvlLbl val="0"/>
      </c:catAx>
      <c:valAx>
        <c:axId val="95664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D5D-E989-4CA3-A53D-399354D9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63A-35F7-4712-BA0C-D2DA2B15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4D1-13AC-4BFD-932E-BF1DB897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4B3-B6C9-4BAE-909E-349E6378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E70-2CFB-47E0-B50E-689CA83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CDA-1572-499F-8109-D629EFE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7EA-AF43-40BA-B018-9DF321C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880-3161-4103-ACCE-41CA0389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8BE-C5F1-4C87-84BE-9DC5D87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78A-C665-4312-A567-BD45B95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E71-A88F-4EB7-9418-C0A339FF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438-B722-427A-8159-CF35CDA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84B6F-7DEF-46A2-9C4D-296F87C798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