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24535"/>
        <c:axId val="42048641"/>
      </c:barChart>
      <c:catAx>
        <c:axId val="86824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48641"/>
        <c:crosses val="autoZero"/>
        <c:auto val="1"/>
        <c:lblAlgn val="ctr"/>
        <c:lblOffset val="100"/>
        <c:noMultiLvlLbl val="0"/>
      </c:catAx>
      <c:valAx>
        <c:axId val="42048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4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553-1DD8-4064-8DC3-C1CE3A27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B7B-DF7A-4A1F-8E99-813BEE4A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8DE-D8EC-422C-AA79-83B414A0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FACC-7B10-4E14-8AEC-B15BA28A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9D5-DFD4-48C2-B8AC-518793F7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8A9-60B8-4584-98A1-3831522F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67C-AB74-4562-86F4-FFD986B4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08E-B479-4ECC-A82D-7A4EB8EB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B59-81DA-49DF-A3D2-2219735D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59D-A401-44F5-9363-B89ABDFF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0DF-B7AF-45E8-8649-D6E54F9E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6CF-1ADA-4D91-98BF-496A3D20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729C1-9EC0-4526-8193-9B642503E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